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A5A-679B-4FFA-A586-D5B2E05E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E2A-64FE-4E92-84FA-E806771C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6C4-BED8-4DB5-B403-168D77BD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585-B815-48FD-A7CB-9F35FEDA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6578-13B5-483C-A3E5-72C0A953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1082-97B5-42C2-9754-BCAA1B94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A1FD-CD2B-4E9C-9C9B-BCC1BF5C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BEBB-1E04-4207-B7EB-C685E2AA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AE5F-0C52-4EC7-98FD-725C8C50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BA41-28BC-4800-B484-A8C78C51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5DBE-0A80-4FCD-8B3A-937908AE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22D-22DE-44D2-86C1-49D2C420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1CA3-1A24-4A90-B28F-B7CA2566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9694-464D-48E5-833A-32E59B87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62D2-D80D-4046-AFAE-F5BF80A3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6A09-6AA0-4903-B68B-FEEAE8F5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636C-4769-40B4-B56D-7F9753CD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748EF-D188-48B2-8262-6AADFD52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6AEDA-5EAC-468D-9BA9-5B95B24C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5146-1AEE-4AF7-B7C5-965CE2BF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75FE-3D49-4803-B589-352A2557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321C-CB36-4E3D-A2D1-4E627F8A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099-F385-426A-BAB1-D09C372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5977-80E2-4405-AEF0-032B8B52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BAF3C-5A39-4F23-8F30-8605D18D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5B644-3B51-4686-A244-FC9CB6C4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CD5B-E421-4A6E-8D28-73366058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080C-B7C1-4EF8-A85C-A0989D51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D30CB-1003-4159-A2D3-38531952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94A4F-7036-4983-92A7-326D7CE2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0115-3E5C-4933-B615-C5B67229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9058-CA39-4B7E-A0A3-0E419D29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5DBEE-030A-4171-969A-15BE2654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24A-C1D8-45D7-B93D-DA00C036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B274-B1FC-4081-B423-F535431D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DD81-2EFB-4E2C-9844-C47FCB78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23909-A161-4F64-9A2E-050F7394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C6A2-C68D-4966-ADBB-9FE7A320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5291E-DC3D-4089-BB19-C59CDAE5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81BCE-EFCD-4266-B941-8DF6B4D9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70C7-161C-4EE3-B23F-0B88E3E5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DB12A-E741-4CF7-91FB-681CDBE0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5082F-534A-4D49-B14E-BA682D52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B2E-A452-4C8F-9030-FA76FA3C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B85-372C-4E63-810F-ACD9378A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CB8-B21F-4FA1-B7BE-4FB2CE3C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43C-C679-4C0D-89A0-410EA7A4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18D-8986-4DD1-B948-3E2CD1B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517B-DEE8-43BF-95B6-B7AA613CCCCB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4CAE-DCC5-4686-AD8A-046D824513D5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5EAF-D126-45C7-A134-2217E30B31AC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4BBD-D01C-462F-862D-E2EFF2CD6EDF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360" y="3886200"/>
            <a:ext cx="707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Lic. OSCAR GUILLERMO CORREA TOV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oordinad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2 Rectángulo"/>
          <p:cNvSpPr/>
          <p:nvPr/>
        </p:nvSpPr>
        <p:spPr>
          <a:xfrm>
            <a:off x="428760" y="1220760"/>
            <a:ext cx="828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ner como pilares que garanticen la Convivencia en nuestro colegio, los valores de RESPETO,  TOLERANCIA, DIALOGO y CONCILIAC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r estudiantes capaces para vivir en comunidad, amparados en los principios de la ética y la mor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r un ambiente de sana convivencia entre los miembros de la Comunidad Educativa para facilitar el buen rendimiento académico de los educand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ientar el desarrollo del estudiante como un ser Singular, Autónomo, Social y Trascendente; por medio del seguimiento mutuo de valores y testimonio de v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928800" y="151524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anual de Conviv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ey de Infancia y Adolescenc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asistencia diaria (Fallas y retardo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ntradas y salid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xcus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itación a padres de famili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urnos de disciplina (Profesore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uniform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a de compromiso por reincidencia (Firma del estudiant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a de compromiso por reincidencia (Firma del Padre de Familia y estudiant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dor del Estudiante.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3 Rectángulo"/>
          <p:cNvSpPr/>
          <p:nvPr/>
        </p:nvSpPr>
        <p:spPr>
          <a:xfrm>
            <a:off x="2500200" y="285840"/>
            <a:ext cx="38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omic"/>
                <a:ea typeface="Times New Roman"/>
              </a:rPr>
              <a:t>RECURSO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1357200" y="2083680"/>
            <a:ext cx="650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RECHO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  la facultad que tiene cada persona para recibir, decidir o exigir algo libremente sin lesionar a los demás. Todo derecho lleva por consiguiente un deber que consiste en la contraprestación que la ESCUELA como comunidad organizada puede exigir a cada uno de nosotros, esto es, cuando tenemos derechos tenemos obligaciones; lo que es ejercitable como derecho para unos es exigible como deber para otr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1 Título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321760" cy="1620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857160" y="2545920"/>
            <a:ext cx="7643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on aquellas normas, que los profesores y estudiantes cumplirán para mejorar el ambiente de convivencia en el aula de clase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Hora Clase: 55 minutos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l comienzo los 5 minutos restantes se utilizarán para que el profesor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De informaciones adicionales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De permiso a los estudiantes para que vayan al baño en forma ordenada e individual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Preparar los materiales para la clase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vacuar el salón de clase y el edificio en forma ordenada y rápida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n la última hora, dar 10 minutos para organizar los puestos, recoger papeles y evacuar en forma rápida y ordenada los salones de clase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n caso de fallar un profesor a clase, sin dejar trabajo para la hora correspondiente, todos los estudiantes podrán estar dentro del salón aprovechando el tiempo en otra actividad académica o todos salir al patio a desarrollar actividades de tipo recreativo o deportivo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ursos de cada piso organizarán un periódico mural, y serán responsables de su cuidado y actualización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Mantener el celular en modo vibración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os grupos de apoyo se organizarán con los estudiantes de grado noveno y octavo, así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Primer Semestre: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902, 904, 903, 90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egundo semestre: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801, 802, 803, 804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 Título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1428840" y="2085480"/>
            <a:ext cx="607212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cibiré respuesta a cualquier petición de conformidad con el derecho de petición consagrado en el artículo 23 de la Constitución Nacional teniendo en cuenta para esto el conducto regul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 de Curs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ordinado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ientador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ctorí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jo Direc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4"/>
          <p:cNvSpPr/>
          <p:nvPr/>
        </p:nvSpPr>
        <p:spPr>
          <a:xfrm>
            <a:off x="785880" y="192888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remen Bd BT"/>
                <a:ea typeface="Times New Roman"/>
              </a:rPr>
              <a:t>DIALOG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Maestro – 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Observador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Line 32"/>
          <p:cNvSpPr/>
          <p:nvPr/>
        </p:nvSpPr>
        <p:spPr>
          <a:xfrm>
            <a:off x="1571760" y="17146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1571760" y="2571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30"/>
          <p:cNvSpPr/>
          <p:nvPr/>
        </p:nvSpPr>
        <p:spPr>
          <a:xfrm>
            <a:off x="1500120" y="36432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Line 29"/>
          <p:cNvSpPr/>
          <p:nvPr/>
        </p:nvSpPr>
        <p:spPr>
          <a:xfrm>
            <a:off x="6286680" y="46432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5214960" y="48578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1571760" y="857160"/>
            <a:ext cx="468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2500200" y="285840"/>
            <a:ext cx="3200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80"/>
                </a:solidFill>
                <a:latin typeface="Tahoma"/>
                <a:ea typeface="Times New Roman"/>
              </a:rPr>
              <a:t>PROCESO FORM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Line 25"/>
          <p:cNvSpPr/>
          <p:nvPr/>
        </p:nvSpPr>
        <p:spPr>
          <a:xfrm>
            <a:off x="1571760" y="8571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Line 24"/>
          <p:cNvSpPr/>
          <p:nvPr/>
        </p:nvSpPr>
        <p:spPr>
          <a:xfrm>
            <a:off x="4071960" y="71424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Line 23"/>
          <p:cNvSpPr/>
          <p:nvPr/>
        </p:nvSpPr>
        <p:spPr>
          <a:xfrm>
            <a:off x="6215040" y="8571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928800" y="1214280"/>
            <a:ext cx="13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remen Bd BT"/>
                <a:ea typeface="Times New Roman"/>
              </a:rPr>
              <a:t>FALTAS LEV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57720" y="12859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remen Bd BT"/>
                <a:ea typeface="Times New Roman"/>
              </a:rPr>
              <a:t>FALTAS GRAV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5500800" y="12142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remen Bd BT"/>
                <a:ea typeface="Times New Roman"/>
              </a:rPr>
              <a:t>FALTAS ESPÈCIAL GRAVEDAD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500040" y="2857680"/>
            <a:ext cx="205740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remen Bd BT"/>
                <a:ea typeface="Times New Roman"/>
              </a:rPr>
              <a:t>CONCERTACIO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Maestro – 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Director de Curs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Observador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571680" y="4000680"/>
            <a:ext cx="2057400" cy="1257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Bremen Bd BT"/>
                <a:ea typeface="Times New Roman"/>
              </a:rPr>
              <a:t>Tarjeta VERD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00"/>
                </a:solidFill>
                <a:latin typeface="Berlin Sans FB"/>
                <a:ea typeface="Times New Roman"/>
              </a:rPr>
              <a:t>Director de Curs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00"/>
                </a:solidFill>
                <a:latin typeface="Berlin Sans FB"/>
                <a:ea typeface="Times New Roman"/>
              </a:rPr>
              <a:t>Padre de Familia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Berlin Sans FB"/>
                <a:ea typeface="Times New Roman"/>
              </a:rPr>
              <a:t>COMPROMISO CONVIVENCIA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2643120" y="46432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4071960" y="17146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071880" y="2071800"/>
            <a:ext cx="1942920" cy="102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9900"/>
                </a:solidFill>
                <a:latin typeface="Bremen Bd BT"/>
                <a:ea typeface="Times New Roman"/>
              </a:rPr>
              <a:t>Tarjeta amarill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99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9900"/>
                </a:solidFill>
                <a:latin typeface="Berlin Sans FB"/>
                <a:ea typeface="Times New Roman"/>
              </a:rPr>
              <a:t>Padre de Familia Orientador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9900"/>
                </a:solidFill>
                <a:latin typeface="Berlin Sans FB"/>
                <a:ea typeface="Times New Roman"/>
              </a:rPr>
              <a:t>ACTA DE COMPROMIS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5000760" y="2571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5214960" y="142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5286240" y="1428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6215040" y="16430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357880" y="1928880"/>
            <a:ext cx="1942920" cy="1257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remen Bd BT"/>
                <a:ea typeface="Times New Roman"/>
              </a:rPr>
              <a:t>Tarjeta roj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Padre de Famili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Orientador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ordinador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SUSPENSIO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6215040" y="31431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357880" y="3357720"/>
            <a:ext cx="1942920" cy="1371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remen Bd BT"/>
                <a:ea typeface="Times New Roman"/>
              </a:rPr>
              <a:t>Tarjeta roj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Padre de Famili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mité de Conciliació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RECTOR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MATRICULA DE ÚLTIMA OPORTUNIDAD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4071960" y="5072040"/>
            <a:ext cx="1942920" cy="160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remen Bd BT"/>
                <a:ea typeface="Times New Roman"/>
              </a:rPr>
              <a:t>Tarjeta roj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Padre de Famili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Junta de Profesor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mité de Conciliació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NSEJO DIRECTIV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ANCELACION DE CUP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6357960" y="5072040"/>
            <a:ext cx="1942920" cy="160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remen Bd BT"/>
                <a:ea typeface="Times New Roman"/>
              </a:rPr>
              <a:t>Tarjeta roj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Padre de Famili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Junta de Profesor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mité de Conciliació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NSEJO DIRECTIV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ANCELACION DE MATRICUL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Line 2"/>
          <p:cNvSpPr/>
          <p:nvPr/>
        </p:nvSpPr>
        <p:spPr>
          <a:xfrm>
            <a:off x="7358040" y="48578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Line 1"/>
          <p:cNvSpPr/>
          <p:nvPr/>
        </p:nvSpPr>
        <p:spPr>
          <a:xfrm>
            <a:off x="5214960" y="485784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Rectangle 35"/>
          <p:cNvSpPr/>
          <p:nvPr/>
        </p:nvSpPr>
        <p:spPr>
          <a:xfrm>
            <a:off x="434880" y="360"/>
            <a:ext cx="81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TES DE CORREGIR BUSQUEMOS LOS MEDIOS PARA QUE  EL ESTUDIANTE NO COMETA LAS   FALTA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Rectangle 49"/>
          <p:cNvSpPr/>
          <p:nvPr/>
        </p:nvSpPr>
        <p:spPr>
          <a:xfrm>
            <a:off x="4442760" y="29520"/>
            <a:ext cx="25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39 Conector recto"/>
          <p:cNvSpPr/>
          <p:nvPr/>
        </p:nvSpPr>
        <p:spPr>
          <a:xfrm flipH="1">
            <a:off x="2985840" y="1428840"/>
            <a:ext cx="14040" cy="3214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3000240" y="14288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1 Título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2786040" y="2286000"/>
            <a:ext cx="3429000" cy="3772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VERD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udiante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un compromiso CONVIVENCIAL con Director de Curso y Padres De Familia,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571680" y="1428840"/>
            <a:ext cx="3429000" cy="37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AMARILL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Alumno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un ACTA DE COMPROMISO con la Orientadora y Padres de Familia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643280" y="1428840"/>
            <a:ext cx="3429000" cy="388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ROJ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Alumno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una SUSPENSION con la Orientadora, Coordinador de Procesos Formativos y Padres de Familia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71680" y="1571760"/>
            <a:ext cx="3429000" cy="388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ROJ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Alumno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una MATRICULA DE ULTIMA OPORTUNIDAD con el Comité de Conciliación, Rector y Padres de Familia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714920" y="1571760"/>
            <a:ext cx="3429000" cy="388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ROJ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Alumno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CANCELACION DE CUPO con el Comité de Conciliación, Junta de Profesores, Rector y Padres de Familia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786040" y="1714680"/>
            <a:ext cx="3429000" cy="388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ROJ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Alumno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CANCELACION DE MATRICULA con el Comité de Conciliación, Junta de Profesores, Rector y Padres de Familia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ila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WordArt 2"/>
          <p:cNvSpPr txBox="1"/>
          <p:nvPr/>
        </p:nvSpPr>
        <p:spPr>
          <a:xfrm>
            <a:off x="1857240" y="1571760"/>
            <a:ext cx="5048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lgerianBasD"/>
              </a:rPr>
              <a:t>Convivenc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lgerianBasD"/>
              <a:ea typeface="AlgerianBasD"/>
            </a:endParaRPr>
          </a:p>
        </p:txBody>
      </p:sp>
      <p:sp>
        <p:nvSpPr>
          <p:cNvPr id="199" name="WordArt 3"/>
          <p:cNvSpPr txBox="1"/>
          <p:nvPr/>
        </p:nvSpPr>
        <p:spPr>
          <a:xfrm rot="5400000">
            <a:off x="-705960" y="4236120"/>
            <a:ext cx="4057920" cy="81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Dialogo</a:t>
            </a:r>
            <a:endParaRPr b="0" lang="en-US" sz="5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 rot="5400000">
            <a:off x="5715360" y="4214160"/>
            <a:ext cx="438948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Conciliación</a:t>
            </a:r>
            <a:endParaRPr b="0" lang="en-US" sz="40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2928960" y="5643720"/>
            <a:ext cx="315576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lgerianBasD"/>
              </a:rPr>
              <a:t>Respeto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lgerianBasD"/>
              <a:ea typeface="AlgerianBasD"/>
            </a:endParaRPr>
          </a:p>
        </p:txBody>
      </p:sp>
      <p:pic>
        <p:nvPicPr>
          <p:cNvPr id="202" name="7 Imagen" descr="chinalto1.JPG"/>
          <p:cNvPicPr/>
          <p:nvPr/>
        </p:nvPicPr>
        <p:blipFill>
          <a:blip r:embed="rId7"/>
          <a:stretch/>
        </p:blipFill>
        <p:spPr>
          <a:xfrm>
            <a:off x="2714760" y="2928960"/>
            <a:ext cx="3705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1 Título" descr=""/>
          <p:cNvPicPr/>
          <p:nvPr/>
        </p:nvPicPr>
        <p:blipFill>
          <a:blip r:embed="rId1"/>
          <a:stretch/>
        </p:blipFill>
        <p:spPr>
          <a:xfrm>
            <a:off x="450720" y="566640"/>
            <a:ext cx="8321760" cy="871560"/>
          </a:xfrm>
          <a:prstGeom prst="rect">
            <a:avLst/>
          </a:prstGeom>
          <a:ln w="0">
            <a:noFill/>
          </a:ln>
        </p:spPr>
      </p:pic>
      <p:sp>
        <p:nvSpPr>
          <p:cNvPr id="204" name="2 CuadroTexto"/>
          <p:cNvSpPr/>
          <p:nvPr/>
        </p:nvSpPr>
        <p:spPr>
          <a:xfrm>
            <a:off x="1071720" y="192888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HORARIO GENER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28840" y="2514600"/>
          <a:ext cx="6191280" cy="170640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1150920"/>
                <a:gridCol w="1152360"/>
                <a:gridCol w="1150920"/>
                <a:gridCol w="1016280"/>
              </a:tblGrid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RCO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E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ER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6"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AN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0" y="1000080"/>
          <a:ext cx="9144000" cy="5715000"/>
        </p:xfrm>
        <a:graphic>
          <a:graphicData uri="http://schemas.openxmlformats.org/drawingml/2006/table">
            <a:tbl>
              <a:tblPr/>
              <a:tblGrid>
                <a:gridCol w="3198960"/>
                <a:gridCol w="279360"/>
                <a:gridCol w="566640"/>
                <a:gridCol w="566640"/>
                <a:gridCol w="567000"/>
                <a:gridCol w="566640"/>
                <a:gridCol w="566640"/>
                <a:gridCol w="565200"/>
                <a:gridCol w="566640"/>
                <a:gridCol w="566640"/>
                <a:gridCol w="567000"/>
                <a:gridCol w="566640"/>
              </a:tblGrid>
              <a:tr h="26820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ROS DE COMPORTAMIEN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ER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LI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ST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TIEM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UB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IEM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CUMPLIR RESPONSABLEMENTE CON TAREAS ASIGNADA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 No cumple con las tareas asignadas por los profesores y directiva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  No hace llegar la información del colegio a sus Padres y viceversa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  No cumple con los deberes asignados en la Dirección de Curs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  No cumple con los turnos de ase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 No respeta y sigue las indicaciones del Gobernador  y Secretario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 No permanece en el aula de clas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MOSTRAR PUNTUALIDAD EN LOS ACTOS DE LA VIDA ESCOLAR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 No llega puntualmente al colegi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  No justifica por escrito sus llegadas tard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  No asiste puntualmente a clas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 No justifica sus ausencias a clas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  No asiste a todos los actos de la comunidad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  Tiene acta de compromiso convivencial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RESPETAR Y VALORAR A SUS COMPAÑEROS Y SUPERIORE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 No muestra respeto a Profesores y Directiva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  No respeta los actos de comunidad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  No usa un vocabulario adecuad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 No observa buenos modales dentro y fuera de la institución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  No cuida los enseres del colegio, sus útiles y los de sus compañero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 No cumple con las normas del Pacto de Aula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  Se apropia indebidamente de objetos ajeno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 Realiza fraude en evaluación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  No respeta a sus compañero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0  No cumple con las normas de cortesía ante profesores y directiva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1  No cumple con sus funciones en la secretaria otorgada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2  No mantiene un comportamiento social  adecuad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OBSERVAR BUENA PRESENTACION PERSONAL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  No porta adecuadamente el uniforme dentro y fuera del colegi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  Porta elementos ajenos al uniforme y/o maquillaj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  No se observa orden y aseo en sus prendas de vestir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  No utiliza el corte de cabello adecuad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3 Rectángulo"/>
          <p:cNvSpPr/>
          <p:nvPr/>
        </p:nvSpPr>
        <p:spPr>
          <a:xfrm>
            <a:off x="500760" y="357120"/>
            <a:ext cx="42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Planilla control del comportami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2 Tabla" descr=""/>
          <p:cNvPicPr/>
          <p:nvPr/>
        </p:nvPicPr>
        <p:blipFill>
          <a:blip r:embed="rId1"/>
          <a:stretch/>
        </p:blipFill>
        <p:spPr>
          <a:xfrm>
            <a:off x="1712880" y="785880"/>
            <a:ext cx="4932360" cy="5932440"/>
          </a:xfrm>
          <a:prstGeom prst="rect">
            <a:avLst/>
          </a:prstGeom>
          <a:ln w="0">
            <a:noFill/>
          </a:ln>
        </p:spPr>
      </p:pic>
      <p:sp>
        <p:nvSpPr>
          <p:cNvPr id="209" name="3 Rectángulo"/>
          <p:cNvSpPr/>
          <p:nvPr/>
        </p:nvSpPr>
        <p:spPr>
          <a:xfrm>
            <a:off x="671040" y="42876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Plan de Aul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500040" y="1171440"/>
            <a:ext cx="814392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 base para el desarrollo y progreso de nuestra sociedad y de nuestro país está en la educación; teniendo en cuenta lo anterior, nuestro Colegio se encamina a fomentar valores en los Estudiantes con el concurso de los Padres de Familia como primeros educadores para que asuman con gra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 convivencia en comunidad requiere de ciertos compromisos, los cuales se ajustan a la Constitución Nacional, a la Ley 115, al Código del Menor,  a la filosofía, principios y objetivos de la Institución que determinan las directrices al Colegio para desarrollar hábitos de comportamiento social expresados en los derechos, deberes, estímulos y correctivos que se presentan en el Manual de Convivenci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or tal motivo, los Estudiantes del grado X conscientes de esta realidad y su Director de Curso, de una manera democrática y abierta han diseñado los elementos que garantizarán el mejor ambiente de CONVIVENCIA en el aula de clase y que mediante la Conciliación serán respetados y acatados tanto por los mismos Estudiantes, Docentes y Padres de Famili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3 Rectángulo"/>
          <p:cNvSpPr/>
          <p:nvPr/>
        </p:nvSpPr>
        <p:spPr>
          <a:xfrm>
            <a:off x="1285920" y="2858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omic"/>
                <a:ea typeface="Times New Roman"/>
              </a:rPr>
              <a:t>JUSTIFICACI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642960" y="2143440"/>
            <a:ext cx="807228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rear un ambiente de sana convivencia para permitir el mejor desempeño individual y colectivo de los Educandos en el campo académico, social, cultural y científico por medio de estrategias que permitan el uso, aplicación y cumplimiento del Manual de Convivencia facilitando la dinámica y correcta interacción entre los diferentes estamentos de la Comunidad Rufinista por medio del continuo dialogo, el respeto, la tolerancia y la conciliación orientando al estudiante a descubrir  los valores propios de la sabiduría, evidenciándolos en actitudes que transformen nuestra realidad y sean parte de su proyecto de vida.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3 Rectángulo"/>
          <p:cNvSpPr/>
          <p:nvPr/>
        </p:nvSpPr>
        <p:spPr>
          <a:xfrm>
            <a:off x="1571760" y="428760"/>
            <a:ext cx="564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omic"/>
                <a:ea typeface="Times New Roman"/>
              </a:rPr>
              <a:t>OBJETIVO GENERAL</a:t>
            </a:r>
            <a:r>
              <a:rPr b="0" lang="es-ES" sz="2800" spc="-1" strike="noStrike">
                <a:solidFill>
                  <a:srgbClr val="ff0000"/>
                </a:solidFill>
                <a:latin typeface="com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357120" y="885960"/>
            <a:ext cx="8429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ar los valores cívicos y sociales generando un respeto a la autoridad legítima y a la Ley, la cultura nacional, a la historia, a los símbolos patrios como fundamento a la unidad nacional y de su identidad mediante la participación e integración en las diferentes actividades para una mejor convive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ientar los valores éticos, morales y religiosos de la comunidad para un mayor compromiso como integrante de ell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acer cumplir las normas del Manual de Convivencia por parte de todos los miembros de la Comunidad Educativ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r mecanismos de control para verificar el cumplimiento del Manual de Convive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terminar el proceso para aplicar los correctivos necesarios cuando se incumplen las normas establecid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3 Rectángulo"/>
          <p:cNvSpPr/>
          <p:nvPr/>
        </p:nvSpPr>
        <p:spPr>
          <a:xfrm>
            <a:off x="214200" y="285840"/>
            <a:ext cx="835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omic"/>
                <a:ea typeface="Times New Roman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2 Rectángulo"/>
          <p:cNvSpPr/>
          <p:nvPr/>
        </p:nvSpPr>
        <p:spPr>
          <a:xfrm>
            <a:off x="357120" y="135720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unicar al Padre de Familia las dificultades que ha presentado el Estudiante para adaptarse a las normas de Manual de Convivencia y Pacto de Aul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terminar las normas y principios que regulen el comportamiento de Profesores, Padres de Familia y Estudiantes con el fin de ser partícipes en la sociedad y con un amplio marco de acept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3:55:58Z</dcterms:created>
  <dc:creator>OGCT</dc:creator>
  <dc:description/>
  <dc:language>en-US</dc:language>
  <cp:lastModifiedBy>OSCAR GUILLERMO CORREA TOVAR</cp:lastModifiedBy>
  <dcterms:modified xsi:type="dcterms:W3CDTF">2011-03-02T16:35:15Z</dcterms:modified>
  <cp:revision>8</cp:revision>
  <dc:subject/>
  <dc:title>PACTO DE AULA</dc:title>
</cp:coreProperties>
</file>